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D38E934D-0764-4D3A-8D9E-52DBF23BB3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Protsessor, mälu, käsud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anel Tamme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90000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äike komponent: välistav või</a:t>
            </a:r>
            <a:r>
              <a:rPr b="1" lang="ar-SA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A xor B   =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(A and (not B)) or (B and (not A)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914400" y="31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4 biti liitja and / or / xor loogikakomponentidest</a:t>
            </a:r>
            <a:r>
              <a:rPr b="1" lang="ar-SA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280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Mälu</a:t>
            </a:r>
            <a:r>
              <a:rPr b="1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 põhi-id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762120" y="-307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Mälu on aeglane ja ei lähe eriti ruttu kiirema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6042240" cy="335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Eri mäluosad ehitatud eri tehnoloogia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Arvuti põhimälu DRAM on ehitatud väikestest kondensaatoritest: iga kondensaator hoiab ühte bitti. Tema juhtimiseks on kasutusel veel üks transist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Kondensaatoritega mälu ei osata väga kiireks te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Kondensaatoritega mälu on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Protsessori registrid ja cache mälu on ehitatud transistoridest (SRAM): 4 või 6 transistori ühe biti koh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See on kiire tehnoloog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Samas on see kall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SSD (flash mälu, mälupulgad) on samuti transistoridest, aga aeglane ja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che ja mälu hierarhia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suhteliste kiirus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1360080" y="1371600"/>
            <a:ext cx="2994120" cy="5029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 flipV="1">
            <a:off x="4331880" y="1360080"/>
            <a:ext cx="2994120" cy="5280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4560840" y="914400"/>
            <a:ext cx="1393920" cy="457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 flipH="1">
            <a:off x="4789080" y="1600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 flipH="1">
            <a:off x="5017680" y="2286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6"/>
          <p:cNvSpPr/>
          <p:nvPr/>
        </p:nvSpPr>
        <p:spPr>
          <a:xfrm flipH="1">
            <a:off x="5474880" y="29718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7"/>
          <p:cNvSpPr/>
          <p:nvPr/>
        </p:nvSpPr>
        <p:spPr>
          <a:xfrm flipH="1">
            <a:off x="5805000" y="3591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1393920" y="5715000"/>
            <a:ext cx="190440" cy="56988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544920" y="12142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7056720" y="331632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1009800" y="520524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3316320" y="160020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2927160" y="212868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1143000" y="4114800"/>
            <a:ext cx="1392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000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2514600" y="2971800"/>
            <a:ext cx="665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1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Tüüpiline lihtsat sorti prots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tsessori sees on väike hulk spetsiaal-mälupesi (registrid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hteid saab teha ainult nende registrite vah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i ole näiteks võimalik liita otse kahte mälus olevat arvu: enne tuleb nad registritesse kopeerida, siis seal liita, siis tulemusregistrist (nn akumulaator) mäll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kirjut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Koha, kust mälust loetakse/kirjutatak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äitab ADDR regist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Koha, kust lugeda järgmine käs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äitab PC (program counter) registe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Mida protsessor teha oskab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Loeb mälust arve tehte-registritesse, teeb lihtsaid tehteid (liitmine, korrutamine jne) ning salvestab neid jälle mäll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eeb tingimuslikke hüppeid koodis, a la „kui registris ACC on arv null, siis hakka täitma käske aadressilt 1000, muidu jätka samast kohast“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eeb mälust lugemisi ja kirjutamisi rezhiimis, kus mäluaadress arvutatakse mitme registri sisu liitmise te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eerukamatel protsessoritel on palju erikäske, mis teevad levinud programmijuppe (a la liida pikk jada arve mälust) otse elektroonikas ja kiiremini, kui ta paljude lihtsa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äskude jadana suuda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eguleerib kiire cache-mälu kasutus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da hoida caches j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da sealt välja vis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Käskude täitmine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 elektroonika poolt tsükli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Lihtsal protsessoril on 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ks tsüklit üksteise se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Välimine tsükkel suurendab igal ringil PC-d (program counterit), st igal ringil võetakse täidetav käsk järgmisest mälupes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isemine tsükkel toimub iga käsu sees. Sisemise tsükli jooksul täidetakse käsu sisemisi pisi-sam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Üks pisi-samm vastab mingile juhtmele voolu peale andmisele, mispeale käivitub vastav loogika-ahel prot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ssoris ja selle tulemus salvestatakse mõnda registris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asina taktsagedus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Sisukor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ransistoridest lülitid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Suuremad komponendid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älu: tagasisidega lüliti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älu on aeglan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älutüübid ja cach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Käsud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Keeruline protsessor on igatpidi parallee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Keerulisel (st kaasaegsel) protsessoril on mitu kihti parallelism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Protsessoril on mitu tuuma: igaüks on sõltumatu omaette töötav protsess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Üks tuum püüab (ja tihti suudab) täita hulka käske paralleels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If-lausete puhul püüab protsessor paralleelselt ette täita ühte haru, mida ta peab tõenäolisema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Cache salvestab erinevaid hilju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kasutatud põhimälu jupp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kiires SRAM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Põhimure on minimeeri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põhimälu poole pöördumis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Protsessor, mälu, käsud: reaalne näid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anel Tamme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Uurime reaalset protsessorit: 65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OS 6502 oli kasutusel Apple II ja enamuse varaste koduarvutite protsessorina. Tal on üpris lihtsad käsud. Mobiilides kasutatav ARM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selle protsessori kauge järeltuli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Hobikasutajate ja eri-huvi-vajaduste jaoks toodetakse seda siiamaani, küll mitte enam sama firma poo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aasaegsed protsessorid on palju keerukama käsusüsteemiga, kuid põhi-ideed on analoogili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utvume käskude ja assembleriga pikemalt said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Uurime reaalset protsessorit: 65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Väike näiteprogramm, mida protsessor suudab täita, on lihtsal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baidijada mälus, mis siin hex-kujul (16-nd süsteemi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9 01 8d 00 02 a9 05 8d 01 02 a9 08 8d 02 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s „inimkeelseks“ mnemooniliseks assembleriks tõlgituna näeb välj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 Hexdump   Diss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0    a9 01     LDA #$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2    8d 00 02  STA $0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5    a9 05     LDA #$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7    8d 01 02  STA $02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a    a9 08     LDA #$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c    8d 02 02  STA $0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Need käsud laevad mälust a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ja salvestavad neid teise koh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mälu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153240" y="105480"/>
            <a:ext cx="28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Unicode MS"/>
              </a:rPr>
              <a:t>a9 01 8d 00 02 a9 05 8d 01 02 a9 08 8d 02 02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480" y="12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Näpuga lüliti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Relee: mootoriga lüliti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949280" y="121284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Box 35"/>
          <p:cNvSpPr/>
          <p:nvPr/>
        </p:nvSpPr>
        <p:spPr>
          <a:xfrm>
            <a:off x="5040000" y="395136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iks releed / transistorid? Näide: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aliseerime lausearvutuse valemi   </a:t>
            </a:r>
            <a:r>
              <a:rPr b="0" lang="et-EE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Not (A &amp; B)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leedega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3" name="Straight Arrow Connector 39"/>
          <p:cNvCxnSpPr>
            <a:endCxn id="101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4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5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9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685800" y="4735440"/>
            <a:ext cx="3333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Tahoma"/>
              </a:rPr>
              <a:t>Keerukamaid asju, näiteks liitmist ja korrutamist, ehitatak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Tahoma"/>
              </a:rPr>
              <a:t>suure hulga lausearvutuse tehetena umbes samal mo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onend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8080" y="76212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Peamine idee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transistorid kui “katkestusmootoriga” lülit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= (A and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no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Väikestest komponentide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hitatakse suuremaid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illest omakor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veel suuremai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368720" y="3184560"/>
            <a:ext cx="13791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5254920" y="3184560"/>
            <a:ext cx="13791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347720" y="1432080"/>
            <a:ext cx="230580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9064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msgothic"/>
              </a:rPr>
              <a:t>Tegelikud and- ja or-komponend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497520" y="1066680"/>
            <a:ext cx="7702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83808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msgothic"/>
              </a:rPr>
              <a:t>Mikroprotsessori se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gothic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gothic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836640" y="1905120"/>
            <a:ext cx="423072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3808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 on kihil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14640" indent="-3146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Sinine: ränist a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Punane: pooljuhtid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       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transisto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Kollane: metalljuht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2665440" y="533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2-04T08:24:25Z</dcterms:modified>
  <cp:revision>47</cp:revision>
  <dc:subject/>
  <dc:title>PowerPoint Presentation</dc:title>
</cp:coreProperties>
</file>